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1930-4102-4CD7-A578-07882C578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61D5-7EB3-4F57-BAA6-8CFE1752D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6484-FFCA-4850-A401-8E9C080D7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F4A1-8C03-469B-AEED-BB05D3852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E4EB-1E3E-4A57-A787-ED29EC610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1D5D-7E8C-4074-9F3B-88B6B81AB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E5E4-2D4C-4D02-B4D2-4E5D9C53F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AD3E-4A24-4A4D-A778-990C06BF8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33D6-FC97-46BF-BA6D-3DA0AA266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C972-DBDB-4F45-81BD-EE3F4840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549E-CE4A-4753-8D26-B6A41BFC4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3ECC-BDE8-4CF1-8CEE-7241FDC9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428E2-B476-4B04-A8A9-628A5A7065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6205340CxXcORIlCn_ph" descr=""/>
          <p:cNvPicPr/>
          <p:nvPr/>
        </p:nvPicPr>
        <p:blipFill>
          <a:blip r:embed="rId2"/>
          <a:stretch/>
        </p:blipFill>
        <p:spPr>
          <a:xfrm>
            <a:off x="0" y="0"/>
            <a:ext cx="54831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101200" y="0"/>
            <a:ext cx="499032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إن شئت حيات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فبين يدي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إن شئت أشواق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فهي إلي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إني لست أطل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شيئا من لدي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غير حبك الأمي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والسعي إلي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هذي هي طلبت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هذي منيت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فاستجب لي يا إله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6205340CxXcORIlCn_ph" descr=""/>
          <p:cNvPicPr/>
          <p:nvPr/>
        </p:nvPicPr>
        <p:blipFill>
          <a:blip r:embed="rId2"/>
          <a:stretch/>
        </p:blipFill>
        <p:spPr>
          <a:xfrm>
            <a:off x="0" y="0"/>
            <a:ext cx="548316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736880" y="0"/>
            <a:ext cx="442656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إشفيني وقتن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بخبز السما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كلما اعتران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جوع أو ظم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اجعل في فؤاد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حب الإنتما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التأني في سبي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حفظ ود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إذا أخطأ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هبني الندما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العزاء يا إله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6205340CxXcORIlCn_ph" descr=""/>
          <p:cNvPicPr/>
          <p:nvPr/>
        </p:nvPicPr>
        <p:blipFill>
          <a:blip r:embed="rId2"/>
          <a:stretch/>
        </p:blipFill>
        <p:spPr>
          <a:xfrm>
            <a:off x="0" y="0"/>
            <a:ext cx="548316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159520" y="0"/>
            <a:ext cx="448920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إذا ما ضعف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أنت قوت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إذا ما حزن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أنت سلوت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إنك القدي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شدد همتي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بناء الملكوت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ما بين الأنا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في وسط الصعا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أذكر عهد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انتشلني يا إله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6:24:44Z</dcterms:created>
  <dc:creator>USER</dc:creator>
  <dc:description/>
  <dc:language>en-US</dc:language>
  <cp:lastModifiedBy>USER</cp:lastModifiedBy>
  <dcterms:modified xsi:type="dcterms:W3CDTF">2002-10-30T16:30:28Z</dcterms:modified>
  <cp:revision>3</cp:revision>
  <dc:subject/>
  <dc:title>PowerPoint Presentation</dc:title>
</cp:coreProperties>
</file>